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F2C9-D089-44B4-9196-C3C202A8A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D0BA-7442-457E-A6C1-E21272F8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D752-4C6E-4ADE-82A0-414A702F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7DB-CB97-439F-BBCA-A29B55F7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ABE-C93A-42DD-9D33-B3429EE6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25C-CAE6-4074-A306-914BD0D4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CD2-484D-41EF-8766-47395764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834-5897-424C-9F75-ADDF6692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800-5CFE-4AFE-8B38-6C2C139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814-D09C-4995-9101-785FA11F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ADB-E3B4-4747-9126-7924005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52D-3A06-411E-9FC7-DCB6A47E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92B8-49E8-4893-A159-A6F3FC64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6476040" y="2742120"/>
            <a:ext cx="2159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CONOS Y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LCUL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2000" y="4876920"/>
            <a:ext cx="40784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Menu funciones predefini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7.- Borra los datos existen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Ingreso de las tablas de dato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8.- Teclado calculado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Modo estandard a Hewlet Packard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9.- Nombre corto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Display de la calculadora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.-Nombre largo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 Nueva “calculadora”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.- Unidad de la vari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Duplica calculadora ex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67160" y="1467000"/>
            <a:ext cx="3633480" cy="2581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30960" y="914400"/>
            <a:ext cx="3285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            2              3               4               5              6            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4680" y="4419720"/>
            <a:ext cx="2869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                               9                   10                    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35120" y="2820960"/>
            <a:ext cx="1054080" cy="1359000"/>
          </a:xfrm>
          <a:prstGeom prst="rect">
            <a:avLst/>
          </a:prstGeom>
          <a:noFill/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62160" y="4192560"/>
            <a:ext cx="0" cy="216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29200" y="3887640"/>
            <a:ext cx="0" cy="52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76760" y="3887640"/>
            <a:ext cx="0" cy="520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815000" y="3265560"/>
            <a:ext cx="0" cy="1155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335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907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242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9096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244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81680" y="1144440"/>
            <a:ext cx="0" cy="151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7800" y="1144440"/>
            <a:ext cx="0" cy="90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rot="5400000">
            <a:off x="6170760" y="2742840"/>
            <a:ext cx="33606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CONOS Y COMAN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NALIZADOR DE FRECUENCIA (F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74960" y="1371600"/>
            <a:ext cx="3029040" cy="1981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61960" y="1592280"/>
            <a:ext cx="24552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1440" y="166356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11440" y="181620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11440" y="2502000"/>
            <a:ext cx="368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79000" y="3726000"/>
            <a:ext cx="1973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                              5   6     7      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05288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04360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95880" y="3180960"/>
            <a:ext cx="0" cy="546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24480" y="2889360"/>
            <a:ext cx="0" cy="82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29400" y="2889360"/>
            <a:ext cx="0" cy="82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7800" y="1820880"/>
            <a:ext cx="30960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22560" y="1892160"/>
            <a:ext cx="546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722560" y="2425680"/>
            <a:ext cx="5461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30960" y="2432160"/>
            <a:ext cx="825480" cy="291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4560" y="4506840"/>
            <a:ext cx="5643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Amplia el factor de escala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7.- Activa y desactiva el curs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Reduce el factor de escala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8.- Configura el analizador FF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Cambia la variable de las ordenad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  9.- Exporta los datos del clu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Cambia la variable de las absiz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0.- Menu de tabla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 Reduce el factor de escala de las absizas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1.- Selector de canal a anali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Amplia el factor de escala de las orde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747360" y="374760"/>
            <a:ext cx="7834680" cy="6192720"/>
            <a:chOff x="747360" y="374760"/>
            <a:chExt cx="7834680" cy="6192720"/>
          </a:xfrm>
        </p:grpSpPr>
        <p:sp>
          <p:nvSpPr>
            <p:cNvPr id="76" name=""/>
            <p:cNvSpPr/>
            <p:nvPr/>
          </p:nvSpPr>
          <p:spPr>
            <a:xfrm>
              <a:off x="1352160" y="4924440"/>
              <a:ext cx="60015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Menu Principal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Configuración|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1.- Medidor Digit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Minimiz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Registr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2.- Medidor Ana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Reduci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3.- Monito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3.- Osciloscopi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Cerr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4.- Para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4.- Transf. de Fouri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Menu Bar SW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.- Paus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5.- Tabla de Da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Sub Menu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6.- Ventana de Registr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6.- Gráf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.- Minimiza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7.- Opciones de Muestreo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7.- Plug Analógic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.- Reduci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8.- Block de Not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8.- Canales Digit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.- Cerrar Configuración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9.- Calculador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9.- Canales Analógic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Comandos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0.- Plug Digital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5400000">
              <a:off x="6002280" y="3297600"/>
              <a:ext cx="4857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CONOS PANTALLA PRINCIPAL SCIENCE WORKSH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343160" y="895320"/>
              <a:ext cx="6057720" cy="333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490560" y="374760"/>
              <a:ext cx="2865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42880" y="374760"/>
              <a:ext cx="6019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   3  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5360" y="1060560"/>
              <a:ext cx="251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7360" y="1060560"/>
              <a:ext cx="321480" cy="25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3720" y="4260960"/>
              <a:ext cx="3651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0        21          22          23         24         25         26          2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0292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4864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01992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45720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1148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6576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12408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743200" y="3346200"/>
              <a:ext cx="0" cy="927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160" y="3429000"/>
              <a:ext cx="1130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73160" y="3276720"/>
              <a:ext cx="67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73160" y="2971800"/>
              <a:ext cx="368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73160" y="23623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73160" y="2057400"/>
              <a:ext cx="1054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073160" y="1746360"/>
              <a:ext cx="1130400" cy="164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073160" y="1669680"/>
              <a:ext cx="749160" cy="88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73160" y="1600200"/>
              <a:ext cx="368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3160" y="1295280"/>
              <a:ext cx="2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97640" y="1143000"/>
              <a:ext cx="2160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760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6292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15200" y="615960"/>
              <a:ext cx="0" cy="291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8240" y="1454040"/>
              <a:ext cx="1739880" cy="2730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2280" y="448956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21080" y="1454040"/>
              <a:ext cx="4559040" cy="31114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62360" y="1746360"/>
              <a:ext cx="321480" cy="10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29040" y="2508120"/>
              <a:ext cx="321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7080120" y="2590920"/>
              <a:ext cx="470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175000" y="1828800"/>
              <a:ext cx="1307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650760" y="1974960"/>
              <a:ext cx="2832120" cy="622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219320" y="4184640"/>
              <a:ext cx="0" cy="317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23560" y="374760"/>
              <a:ext cx="672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7   8    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9132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360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615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747720" y="1233360"/>
            <a:ext cx="7643880" cy="4724640"/>
            <a:chOff x="747720" y="1233360"/>
            <a:chExt cx="7643880" cy="4724640"/>
          </a:xfrm>
        </p:grpSpPr>
        <p:sp>
          <p:nvSpPr>
            <p:cNvPr id="120" name=""/>
            <p:cNvSpPr/>
            <p:nvPr/>
          </p:nvSpPr>
          <p:spPr>
            <a:xfrm rot="5400000">
              <a:off x="6433920" y="3165480"/>
              <a:ext cx="361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SUBMENU FILE (ARCHIVO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469880" y="1233360"/>
              <a:ext cx="607716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47720" y="1601640"/>
              <a:ext cx="307800" cy="26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73160" y="16765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73160" y="21337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3160" y="22860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73160" y="24382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73160" y="25909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73160" y="28195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73160" y="29718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3160" y="31240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73160" y="34290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73160" y="358128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73160" y="373392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73160" y="1828800"/>
              <a:ext cx="520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2640" y="4314960"/>
              <a:ext cx="648972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Inicializa el programa para un nuevo experiment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7.- Configura pagina a imprim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Abre Archivos de Datos (*.sws), ya existente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8.- Imprime ventana activ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Cierra la Ventana que esta activ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9.- Imprime todas las ventan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Sobregraba el archivo de datos activ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Exporta la ventana activa a otra aplic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Salva el archivo de datos activo,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Importa datos desde otra aplic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 el nombre y la ruta que se le asigne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Salir del </a:t>
              </a:r>
              <a:r>
                <a:rPr b="0" i="1" lang="es-ES_tradnl" sz="900" spc="-1" strike="noStrike">
                  <a:solidFill>
                    <a:srgbClr val="000000"/>
                  </a:solidFill>
                  <a:latin typeface="Arial"/>
                </a:rPr>
                <a:t>Science Worksho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Deshace la opsión de salvar el arch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47920" y="1514520"/>
            <a:ext cx="607680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75960" y="1909800"/>
            <a:ext cx="2455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5440" y="19810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25440" y="228600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25440" y="24382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25440" y="266688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25440" y="2133720"/>
            <a:ext cx="673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36640" y="3400560"/>
            <a:ext cx="2244960" cy="118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1.- Corta el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2.- Copia un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3.- Pega un área seleccion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.- Borr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5.- Selecciona toda la ventana acti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6841080" y="3146040"/>
            <a:ext cx="2862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PCIONES SUBMENU E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70680" y="714240"/>
            <a:ext cx="7573320" cy="5594040"/>
            <a:chOff x="670680" y="714240"/>
            <a:chExt cx="7573320" cy="5594040"/>
          </a:xfrm>
        </p:grpSpPr>
        <p:sp>
          <p:nvSpPr>
            <p:cNvPr id="146" name=""/>
            <p:cNvSpPr/>
            <p:nvPr/>
          </p:nvSpPr>
          <p:spPr>
            <a:xfrm rot="5400000">
              <a:off x="6385320" y="2918520"/>
              <a:ext cx="3415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SUBMENU EXPER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1066680" y="714240"/>
              <a:ext cx="607716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70680" y="1147680"/>
              <a:ext cx="309600" cy="34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20880" y="12193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0880" y="16002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20880" y="19051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20880" y="22860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20880" y="25909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20880" y="27432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20880" y="28954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0880" y="30481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0880" y="35053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0880" y="38098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0880" y="41148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0880" y="44197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07200" y="5076720"/>
              <a:ext cx="514224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Inicia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7.- Desconecta la interfa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Inicia el monitore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8.- Cambia la interfa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Pausa en el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9.- Minimiza el área de configura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Para el registro de dato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Activa el generador de seña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Activa ventana Opciones de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Activa el block de not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Conecta la interfaz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Activa calculador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1228680"/>
            <a:ext cx="6077160" cy="316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5400000">
            <a:off x="6537600" y="3070800"/>
            <a:ext cx="3198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PCIONES SUBMENU DESPLEG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9640" y="1681200"/>
            <a:ext cx="24552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17524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9480" y="21337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9480" y="24382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9480" y="28195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9480" y="320040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9480" y="35053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9480" y="380988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9480" y="3962520"/>
            <a:ext cx="1511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5480" y="4772160"/>
            <a:ext cx="38955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mencl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1.- Activa medidor digital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5.-Activa una tabla de dat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2.- Activa medidor analógico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6.- Activa un gráf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3.- Activa Osciloscopio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7.- Despliega  configur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4.- Activa tarnsformadas de Fourier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8.- Oculta ventana activ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284840" y="533520"/>
            <a:ext cx="7033320" cy="5925240"/>
            <a:chOff x="1284840" y="533520"/>
            <a:chExt cx="7033320" cy="5925240"/>
          </a:xfrm>
        </p:grpSpPr>
        <p:sp>
          <p:nvSpPr>
            <p:cNvPr id="175" name=""/>
            <p:cNvSpPr/>
            <p:nvPr/>
          </p:nvSpPr>
          <p:spPr>
            <a:xfrm rot="5400000">
              <a:off x="6976080" y="2742120"/>
              <a:ext cx="21686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CONOS DE COM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SCILOSCOP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1600200" y="1077840"/>
              <a:ext cx="4543560" cy="307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808640" y="4724280"/>
              <a:ext cx="16218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          2        3            4    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27560" y="4724280"/>
              <a:ext cx="5335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     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90600" y="1066680"/>
              <a:ext cx="30960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77320" y="533520"/>
              <a:ext cx="117360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         14          1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48320" y="7635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1640" y="763560"/>
              <a:ext cx="292320" cy="74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6400" y="763560"/>
              <a:ext cx="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5721480" y="1208160"/>
              <a:ext cx="977760" cy="164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1442880"/>
              <a:ext cx="749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21480" y="1601640"/>
              <a:ext cx="977760" cy="63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2360" y="1830240"/>
              <a:ext cx="59688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981080" y="3875040"/>
              <a:ext cx="0" cy="774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62320" y="3963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66880" y="3963960"/>
              <a:ext cx="0" cy="673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3887640"/>
              <a:ext cx="0" cy="749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4116240"/>
              <a:ext cx="0" cy="520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9880" y="2211480"/>
              <a:ext cx="2044440" cy="44424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2058840"/>
              <a:ext cx="0" cy="257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24280" y="2440080"/>
              <a:ext cx="0" cy="2197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07280" y="2433600"/>
              <a:ext cx="29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84840" y="4952880"/>
              <a:ext cx="5777640" cy="15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Selecciona la variable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9.-Combina la traza superior con la traza inferi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Reduce el rango de escala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Desplaza la traza hacia abaj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Amplia el rango de escala de las absizas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Exporta los datos de la traz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Activa y desactiva el Trigg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2.- Desplaza la traza hacia arrib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Activa y desactiva curso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3.- Amplia el rango de escala de las ordenad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Selector de variable, segundo clust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4.- Reduce el rango de  escala de las ordenad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.- Selector de variable, tercer cluster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5.- Selector de variable, primer clu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.- Panel de comandos de un clu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219320" y="914400"/>
            <a:ext cx="6914880" cy="5270040"/>
            <a:chOff x="1219320" y="914400"/>
            <a:chExt cx="6914880" cy="5270040"/>
          </a:xfrm>
        </p:grpSpPr>
        <p:sp>
          <p:nvSpPr>
            <p:cNvPr id="199" name=""/>
            <p:cNvSpPr/>
            <p:nvPr/>
          </p:nvSpPr>
          <p:spPr>
            <a:xfrm rot="5400000">
              <a:off x="6638400" y="2961000"/>
              <a:ext cx="247644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ONFIGURACIÓN DE L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OPCIONES DE MUESTR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" descr=""/>
            <p:cNvPicPr/>
            <p:nvPr/>
          </p:nvPicPr>
          <p:blipFill>
            <a:blip r:embed="rId1"/>
            <a:stretch/>
          </p:blipFill>
          <p:spPr>
            <a:xfrm>
              <a:off x="1793880" y="1890720"/>
              <a:ext cx="49147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274400" y="2590920"/>
              <a:ext cx="24552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23880" y="2668680"/>
              <a:ext cx="74952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23880" y="3119400"/>
              <a:ext cx="520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523880" y="3112920"/>
              <a:ext cx="1359000" cy="393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23880" y="4033800"/>
              <a:ext cx="520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19320" y="2363760"/>
              <a:ext cx="2273040" cy="12826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57600" y="1754280"/>
              <a:ext cx="1282680" cy="166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05520" y="1754280"/>
              <a:ext cx="1282680" cy="16635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19920" y="273852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19920" y="31194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19920" y="327168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2890800"/>
              <a:ext cx="901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89400" y="2666880"/>
              <a:ext cx="2455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2203560" y="1208160"/>
              <a:ext cx="0" cy="1155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260960" y="1207800"/>
              <a:ext cx="0" cy="54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708520" y="1207800"/>
              <a:ext cx="0" cy="546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22120" y="914400"/>
              <a:ext cx="38300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                                                             10                                           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3160" y="4952880"/>
              <a:ext cx="4648320" cy="12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Nomencl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.- Cambia el período de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7.- Condición por ca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2.- Rango bajo de frecuenci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8.- Sin condició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3.- Rango alto de frecuencia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  9.- Condiciones para detener el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4.- Selector de ingreso por teclad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0.- Condiciones para iniciar el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5.- Condición por muestreo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11.- Selector del período de muestre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6.- Condición por tiemp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18:12:58Z</dcterms:created>
  <dc:creator>nosotros</dc:creator>
  <dc:description/>
  <dc:language>en-US</dc:language>
  <cp:lastModifiedBy>nosotros</cp:lastModifiedBy>
  <dcterms:modified xsi:type="dcterms:W3CDTF">1998-05-11T18:37:46Z</dcterms:modified>
  <cp:revision>1</cp:revision>
  <dc:subject/>
  <dc:title>Sin título de diapositiva</dc:title>
</cp:coreProperties>
</file>