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FA93-D577-4DC2-95F4-77806DF26F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lvia Guerrier 4-060, Oscar AníbalLugo 4-123, Eduardo Ruiz Peyré Krause, Nélida Allaca Krause, Leonardo Escudero 4-122, Mónica Delbono Ctro Reg Capacitación, Pablo Roggerone 4-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iliana Segura 4-020, Gabriela Ohanian 4-046, Julio Morales 4-108, Hernán Olave 4-121, Carlos Gutiérrez 4-109/121, José Dacar 4-053, Myrna Brúculo 4-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lejandro Lazo 4-118, Mariela Antión 4-003, Ramón González 4-020, Ana María Marra 4-106, Mario Russo 4-106, Juan Urzúa 4-118, Claudia Lucero 4-0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0F6-64DE-4F5F-84E5-1C84441F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A85-9623-4829-9879-7AC090B8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968-938E-4EA4-B366-B613A88E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1E3-4427-49D1-BE32-2F253B57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C893-AD07-4EFA-8CCB-C8C66850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2F97-69FC-4D6F-8E98-E2C663A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9388-2AFC-49F1-B251-9A783C4B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D56A-5BD7-4E25-946D-38400203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419A-FAC2-4AAC-B89A-263FD4F3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2B7E-5967-4752-808D-FEAD0897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05F5-49AA-480A-8FBE-1AB4607A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860-7353-4530-A86B-FA21867D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7326-1322-41B9-9200-C8246E23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549B-7DA7-4B02-85B5-8A1A590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CC74-D684-46D9-BC43-0503D077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5837-3012-4969-BC3C-8D28FDCC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932C-3C53-4261-96E9-07CEC23E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492-B9C9-4EC7-A83E-8570007E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E9B-0F56-45E5-96A4-424A2C2C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831-86DE-416A-ABC8-277DF6AA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6C5-A414-469E-A4B1-E008C2AB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ADE-F147-488A-89FD-5F50ECB5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8C3-0143-4831-B74E-C85C462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B9A-2383-4644-BABB-BAF2814F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B836-7452-4AC1-961D-0FD8EC4ED4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BC9C-E43F-4018-9BB8-8E03FBA91130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1280" y="304920"/>
            <a:ext cx="55612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Mendoza</a:t>
            </a:r>
            <a:br>
              <a:rPr sz="4400"/>
            </a:b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              y </a:t>
            </a:r>
            <a:br>
              <a:rPr sz="4400"/>
            </a:b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                  el ProSolv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73240" y="3428640"/>
            <a:ext cx="63230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786950"/>
                </a:solidFill>
                <a:latin typeface="Times New Roman"/>
              </a:rPr>
              <a:t>Curso sobre Enseñanza de la Física a través de Resolución de Problemas y Software Asistente</a:t>
            </a:r>
            <a:endParaRPr b="0" lang="en-US" sz="3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86950"/>
                </a:solidFill>
                <a:latin typeface="Times New Roman"/>
              </a:rPr>
              <a:t>2 al 5 de Julio de 2001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86950"/>
                </a:solidFill>
                <a:latin typeface="Arial"/>
              </a:rPr>
              <a:t>Tecnología Educativa s.a.</a:t>
            </a: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86950"/>
                </a:solidFill>
                <a:latin typeface="Arial"/>
              </a:rPr>
              <a:t>Dirección General de Escuelas</a:t>
            </a: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86950"/>
                </a:solidFill>
                <a:latin typeface="Arial"/>
              </a:rPr>
              <a:t>Docente: Ing. Sergio San Román</a:t>
            </a: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Tarde</a:t>
            </a:r>
            <a:br>
              <a:rPr sz="4400"/>
            </a:b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2 y 3 de Julio 200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ejandro Lazo 4-1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iela Antión 4-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món González 4-0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a María Marra 4-1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io Russo 4-1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Urzúa 4-1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udia Lucerh 4-0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Ana María y Mari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f_0189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981080" y="1730520"/>
            <a:ext cx="6324840" cy="47415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Juan, Ramón y Alejandr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gf_0190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057400" y="1752480"/>
            <a:ext cx="6400800" cy="47991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ariela y Claudi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gf_0191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905120" y="158256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</a:t>
            </a:r>
            <a:r>
              <a:rPr b="0" lang="es-ES_tradnl" sz="3600" spc="-1" strike="noStrike">
                <a:solidFill>
                  <a:srgbClr val="996600"/>
                </a:solidFill>
                <a:latin typeface="Times New Roman"/>
              </a:rPr>
              <a:t>V  Invasión 4 de Juli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2" name="agf_0194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828800" y="1373040"/>
            <a:ext cx="6705720" cy="50277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Grupo 4 de Julio de 200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lvia Guerrier 4-0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scar Aníbal Lugo 4-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uardo Ruiz Peyré - Kr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élida Allaca – Kr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onardo Escudero 4-1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ónica Delbono Ctro Reg Capac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blo Roggerone 4-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Silvia, Eduardo y Nélid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6" name="agf_019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5943600" cy="445608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00"/>
                </a:solidFill>
                <a:latin typeface="Times New Roman"/>
              </a:rPr>
              <a:t>Nélida, Oscar, Pablo, Mónica y Leonardo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8" name="agf_0196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019920" cy="45133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00"/>
                </a:solidFill>
                <a:latin typeface="Times New Roman"/>
              </a:rPr>
              <a:t>Oscar, Pablo, Mónica y Leonard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0" name="agf_0197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209680" y="1981080"/>
            <a:ext cx="5685120" cy="42624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996600"/>
                </a:solidFill>
                <a:latin typeface="Times New Roman"/>
              </a:rPr>
              <a:t>Oscar, Mónica, Leonardo, Sergio, Pablo, Silvia, Nélida y Eduardo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2" name="agf_0198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828800" y="1600200"/>
            <a:ext cx="6705720" cy="50277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Mañan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gf_0184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523880" y="1676520"/>
            <a:ext cx="7315200" cy="46623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Grupo San Rafael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86950"/>
                </a:solidFill>
                <a:latin typeface="Times New Roman"/>
              </a:rPr>
              <a:t>5 de Julio de 2001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San Rafael </a:t>
            </a:r>
            <a:r>
              <a:rPr b="0" i="1" lang="es-ES_tradnl" sz="4400" spc="-1" strike="noStrike">
                <a:solidFill>
                  <a:srgbClr val="996600"/>
                </a:solidFill>
                <a:latin typeface="Times New Roman"/>
              </a:rPr>
              <a:t>El lug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6" name="agf_0199" descr=""/>
          <p:cNvPicPr/>
          <p:nvPr/>
        </p:nvPicPr>
        <p:blipFill>
          <a:blip r:embed="rId1"/>
          <a:stretch/>
        </p:blipFill>
        <p:spPr>
          <a:xfrm>
            <a:off x="1828800" y="150660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San Rafael </a:t>
            </a:r>
            <a:r>
              <a:rPr b="0" i="1" lang="es-ES_tradnl" sz="4400" spc="-1" strike="noStrike">
                <a:solidFill>
                  <a:srgbClr val="996600"/>
                </a:solidFill>
                <a:latin typeface="Times New Roman"/>
              </a:rPr>
              <a:t>El lug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8" name="agf_0200" descr=""/>
          <p:cNvPicPr/>
          <p:nvPr/>
        </p:nvPicPr>
        <p:blipFill>
          <a:blip r:embed="rId1"/>
          <a:stretch/>
        </p:blipFill>
        <p:spPr>
          <a:xfrm>
            <a:off x="1828800" y="1411200"/>
            <a:ext cx="6858000" cy="514188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San Rafael </a:t>
            </a:r>
            <a:r>
              <a:rPr b="0" i="1" lang="es-ES_tradnl" sz="4400" spc="-1" strike="noStrike">
                <a:solidFill>
                  <a:srgbClr val="996600"/>
                </a:solidFill>
                <a:latin typeface="Times New Roman"/>
              </a:rPr>
              <a:t>El lug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0" name="agf_0201" descr=""/>
          <p:cNvPicPr/>
          <p:nvPr/>
        </p:nvPicPr>
        <p:blipFill>
          <a:blip r:embed="rId1"/>
          <a:stretch/>
        </p:blipFill>
        <p:spPr>
          <a:xfrm>
            <a:off x="1981080" y="1585800"/>
            <a:ext cx="6523200" cy="48913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Grupo San Rafael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tha Sola – 4-1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ejandra Lo Moro – 4-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udia Manuel – 4-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éstor Sosa – 4-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orge Luis Prósperi – 4-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ejandro Hombla – 4-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lvio Panconi – 4-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celo Fabián Gómez – 4-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iginio Jorge Vázquez – 4-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íbal Luis Ridolfi -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Claudia, Martha y Jorg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4" name="agf_020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522840" cy="48909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Higinio, Alejandra, Marcelo, Silvio, Alejandro, Néstor, Jorge, Martha y Claudi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6" name="agf_0203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752480" y="1447920"/>
            <a:ext cx="6904080" cy="51768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00"/>
                </a:solidFill>
                <a:latin typeface="Times New Roman"/>
              </a:rPr>
              <a:t>Alejandro, Silvio, Marcelo, Alejandra, Higini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8" name="agf_0204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6522840" cy="48913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86950"/>
                </a:solidFill>
                <a:latin typeface="Times New Roman"/>
              </a:rPr>
              <a:t>¡¡Gracias!!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058480" y="4266720"/>
            <a:ext cx="6627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86950"/>
                </a:solidFill>
                <a:latin typeface="Times New Roman"/>
              </a:rPr>
              <a:t>nos seguimos viendo en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8695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786950"/>
                </a:solidFill>
                <a:latin typeface="Comic Sans MS"/>
              </a:rPr>
              <a:t>www.tecnoedu.com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Mañan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7" name="agf_0185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981080" y="1828800"/>
            <a:ext cx="6400800" cy="47991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Mañana</a:t>
            </a:r>
            <a:br>
              <a:rPr sz="4400"/>
            </a:b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2 y 3 de Julio de 200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liana Segura 4-0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briela Ohanian 4-0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lio Morales 4-1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ernán Olave 4-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los Gutiérrez 4-109/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Dacar 4-0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yrna Brúculo 4-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Gabriela, Julio y José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1" name="agf_0186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752480" y="1523880"/>
            <a:ext cx="6705720" cy="50277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Hernán y Carlo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3" name="agf_0187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87640" y="1695600"/>
            <a:ext cx="6446880" cy="48337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Liliana y Myrn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5" name="agf_0188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476760" cy="485604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Mendoza - Grupo Tar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7" name="agf_019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752480" y="1411200"/>
            <a:ext cx="6858000" cy="514188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00"/>
                </a:solidFill>
                <a:latin typeface="Times New Roman"/>
              </a:rPr>
              <a:t>Carga de combustible..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9" name="agf_0193" descr=""/>
          <p:cNvPicPr/>
          <p:nvPr/>
        </p:nvPicPr>
        <p:blipFill>
          <a:blip r:embed="rId1"/>
          <a:srcRect l="0" t="0" r="0" b="12303"/>
          <a:stretch/>
        </p:blipFill>
        <p:spPr>
          <a:xfrm>
            <a:off x="1828800" y="182880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9:53:12Z</dcterms:created>
  <dc:creator>AM</dc:creator>
  <dc:description/>
  <dc:language>en-US</dc:language>
  <cp:lastModifiedBy>Claudio Kübl</cp:lastModifiedBy>
  <dcterms:modified xsi:type="dcterms:W3CDTF">2001-07-11T20:52:54Z</dcterms:modified>
  <cp:revision>16</cp:revision>
  <dc:subject/>
  <dc:title>Mendoza y El ProSolv</dc:title>
</cp:coreProperties>
</file>