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709-A384-4653-877F-A8ACBAF5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5DF-83EE-41EF-A6FF-0389804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4C1-7B53-4669-8456-36C5BCE2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EE3-2089-42AB-84FC-B1242718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08B8-11F6-410B-BBEA-7AB9DA36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193F-12A4-4D32-BCA1-1E45AD9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83F-BCD7-4DA8-952E-B9B50DD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6A8-8883-4CF5-A28A-C98A4EA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F968-5EDB-4398-92ED-89EA714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D14-C92D-4760-8A26-996B0E3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EC6D-DCD0-407B-8EE6-56C8C4BD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7D9-E278-4A97-AB48-F9D86C14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291-7534-436B-A373-58A8B21E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F397-0C89-46A7-974A-26629159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13D6-FDD0-4605-817A-B8CE2661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5B29-65B2-46B4-83CD-A18235AE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8439-9A4A-4BB7-BAFB-F47A0C5D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6AC-2E9C-45FA-9D07-5290BBD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B57-6D5A-4C2E-94E0-E5E135C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9D8-ED18-475D-AF6B-A5F74404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5EE-73D8-4C95-A4FA-3DB6A2A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0C0-CDAB-469C-A171-B0CDF31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87E-1638-4EC8-ADA2-1DE93AD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3DA-A990-4E33-BF72-9F98351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8C28-4D70-4107-9E1B-9410CECBAA29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C02E-711E-4DC2-9261-CF8EBC8D0F6E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34520" y="6477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 las nuevas tecnologí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ás que fijarse en hechos particulares, la ciencia busca conclusiones generales que nos permitan comprender mejor el universo en que vivim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u obtención implica la recolección, análisis y comparación de una gran cantidad de datos y hechos experiment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s métodos tradicionales exigen un tiempo y dedicación no disponibles en el ámbito escol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 las técnicas tradicionales aún fenómenos muy simples requieren un abordaje laborioso, como por ejempl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de qué manera cambia la temperatura del agua en un vaso a medida que agregamos hiel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cómo varía la velocidad de un cuerpo que baja por una pendiente? ¿qué pasa si cambia la pendi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572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es constante la temperatura en el cuerpo humano? ¿estamo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todo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nosotros a unos 37 grados en condiciones normal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56272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hay energía puesta en juego en las reacciones químicas? ¿cómo se manifiesta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2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uso de programas, interfases y sensores integrados en las Nuevas Tecnologías, y el enorme poder de cálculo disponible en PCs corrientes nos permiten ver el mundo con nuevos ojos y descubrir lo invisible. Nos regalan tiempo para dejar volar la imaginación y concentrarnos en los fenómenos que nos intrigan, más que en procedimientos mecánicos y repetitiv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oy, </a:t>
            </a: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en este laboratorio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disponemos de herramientas que hubieran provocado envidia a Galileo, Bohr y Paste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5029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00"/>
                </a:solidFill>
                <a:latin typeface="Times New Roman"/>
              </a:rPr>
              <a:t>¡y lo haremo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podemos aprovecharlas para mejorar el presente y futuro de nuestra comun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7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Arial Narrow"/>
              </a:rPr>
              <a:t>PRODYMES I Mendoza</a:t>
            </a:r>
            <a:br>
              <a:rPr sz="3200"/>
            </a:br>
            <a:r>
              <a:rPr b="0" i="1" lang="es-ES_tradnl" sz="4000" spc="-1" strike="noStrike">
                <a:solidFill>
                  <a:srgbClr val="ffcc00"/>
                </a:solidFill>
                <a:latin typeface="Arial"/>
              </a:rPr>
              <a:t>Nuevas Tecnología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enseñar mejor, aprender mej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791320"/>
            <a:ext cx="358164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0099"/>
                </a:solidFill>
                <a:latin typeface="Arial"/>
              </a:rPr>
              <a:t>Tecnología Educativa s.a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99"/>
                </a:solidFill>
                <a:latin typeface="Arial Narrow"/>
              </a:rPr>
              <a:t>CORDOB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4:52:36Z</dcterms:created>
  <dc:creator>AM</dc:creator>
  <dc:description/>
  <dc:language>en-US</dc:language>
  <cp:lastModifiedBy>AM</cp:lastModifiedBy>
  <dcterms:modified xsi:type="dcterms:W3CDTF">2001-07-06T12:24:05Z</dcterms:modified>
  <cp:revision>41</cp:revision>
  <dc:subject/>
  <dc:title>Enseñar Ciencias Naturales</dc:title>
</cp:coreProperties>
</file>