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4F9E8-2CDE-407A-BF28-2B45ABBB05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7262E-20C7-417C-B784-101CD21E1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A6A2E-A492-4965-AFC6-DCBA7A9CC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AE34A-EB4E-42A0-AF5A-9D3BFE05B9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8505D-8E72-48BF-8139-3F0148CF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04659-D48C-4ED3-B971-CDE55757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ED1EE-6F95-4D25-8D3B-1D89DEA0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F5C7D-C6F1-4A96-95A7-8C8503DD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A58B5-A5D3-4FBA-98F0-649FCA98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821E8-01A6-4206-B5B3-20A8EC6F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7A421-A4CA-464B-90F5-24238AB3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2D29-ECF5-405B-AA52-A710BE4E23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0ECF6-FBEA-46F3-B402-8B878F7A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80BE4-01E8-4D68-8028-E13175A3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6205C-CD59-48CF-9603-EF708F1A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8BDF5-7A63-4FD8-9D42-696CB704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2C6AA-CE8C-4E66-AA9F-F6A5327B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A270D-21E3-4B73-ABFD-18D1B8BA5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7DBD-AD46-435D-8CE2-5B8652B57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1272A-C868-4613-9558-A44285161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E009-59BB-4354-9DDE-E25B4CB48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680E-BB7E-41E4-A9BB-E7EA1C675B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C860F-4A47-44C4-9F20-1E2F8AA67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FFAA1-AA33-4D7D-B3A8-753CCFD80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685440" y="5866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800" spc="-1" strike="noStrike">
                <a:solidFill>
                  <a:srgbClr val="ffcc00"/>
                </a:solidFill>
                <a:latin typeface="Haettenschweile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Haettenschweiler"/>
              </a:rPr>
              <a:t>Prodymes I – LPI 02/2000 - Lotes 20, 21, 22 y 23 provistos 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cc00"/>
                </a:solidFill>
                <a:latin typeface="Arial"/>
              </a:rPr>
              <a:t>Tecnología Educativa s.a. </a:t>
            </a:r>
            <a:r>
              <a:rPr b="0" lang="es-ES_tradnl" sz="1800" spc="-1" strike="noStrike">
                <a:solidFill>
                  <a:srgbClr val="ffcc00"/>
                </a:solidFill>
                <a:latin typeface="Haettenschweiler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Comic Sans MS"/>
              </a:rPr>
              <a:t>www.tecnoedu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-2102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92520" indent="-2102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92520" indent="-2102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3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5EE4-0F52-40A6-BDCB-19D3B430445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cc66"/>
                </a:solidFill>
                <a:latin typeface="Arial"/>
              </a:rPr>
              <a:t>Enseñanza de Ciencias Naturales con la Asistencia de Computadora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396252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aracterísticas Básicas de los Sistem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Times New Roman"/>
              </a:rPr>
              <a:t>Data Studio, Interactive Physics y Proso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467480" y="571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C3BE1-3F7B-4DB5-8FD6-82FDC837B20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Data Studio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Software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2388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 los datos, lleva a cabo las tareas 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le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rat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lmacen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sen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álisis y Model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tracción de Estadísit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AF499-DE18-44ED-8AA0-71B0C85A29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Data Studio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Software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demás Permi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gresar o modificar datos manual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Graficar funciones matemát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rear Guías de Trabajos Práct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B7555-4433-40AE-B33F-367B3B09281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Data Studio:</a:t>
            </a:r>
            <a:br>
              <a:rPr sz="4400"/>
            </a:b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Función Recolecció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table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Qué magnitudes se medirá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ada cuanto se validarán (leerá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úando dará comienzo la medi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uándo terminar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58175-C582-4659-B55F-E28A096ED44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Data Studio</a:t>
            </a:r>
            <a:br>
              <a:rPr sz="4400"/>
            </a:b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Función Tratamient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s señales eléctricas obtenidas se asocian a las magnitudes medidas a través de una interpolación lineal (calibración manual o automática y puesta a cero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s magnitudes medidas pueden dar lugar a nuevas variables a través de cálculos estándar, estadísticos o especi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BF894-10A0-42B4-9D98-FACD2DBFB30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Data Studio</a:t>
            </a:r>
            <a:br>
              <a:rPr sz="4400"/>
            </a:b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Función Presentació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6934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dicadores de Dígi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dicadores de Agu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ablas de val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Gráficos (tipo registrad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scilogra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ransformada Rápida de Four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Guía de Trabajos Prácticos (Workboo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1B8A-7CEA-4AB8-931B-E3A4C1BCEE8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Data Studio</a:t>
            </a:r>
            <a:br>
              <a:rPr sz="4400"/>
            </a:b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Presentación Gráfic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67616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 mediciones directas o cálcu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 una o más variables vs el ti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 una o más variables vs otra vari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 ejes comunes, separados o “montados en papel mantec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 zoom individual o colec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 asociación de regresiones, derivadas, integraciones e histogra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 rotulado y medición en v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25097-11B8-4BC1-8C1A-36B85720C5C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Data Studio</a:t>
            </a:r>
            <a:br>
              <a:rPr sz="4400"/>
            </a:b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Guías de Trabajos Prácticos </a:t>
            </a:r>
            <a:r>
              <a:rPr b="0" lang="es-ES_tradnl" sz="2400" spc="-1" strike="noStrike">
                <a:solidFill>
                  <a:srgbClr val="ffcc66"/>
                </a:solidFill>
                <a:latin typeface="Arial"/>
              </a:rPr>
              <a:t>(Workbooks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cluy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strucciones para los alum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figuración de la interf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figuración de la presentación y tratamiento de los da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3F8E1-F6AE-4860-BC06-5674644CD0B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Interactive Phys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ftware de simulación para la enseñanza de la física. Con las herramientas provistas se pueden abordar estudios de estabilidad, caída libre en, velocidad con respecto a distintos sistemas de referencia, aceleración, primera y segunda ley de Newton, distinción entre masa y peso, cinemática y dinámica rotacional, colisiones, caída libre, trabajo y potencia, etc. creando las experiencias al definir los entornos y las condiciones ini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5B2CC-9E5A-4959-9681-C967725F77A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Interactive Phys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4" name="ip01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367600" cy="404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8873-E96E-4F69-A23B-ED7F3AF9F2F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Interactive Phys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6" name="ip02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664160" cy="3565800"/>
          </a:xfrm>
          <a:prstGeom prst="rect">
            <a:avLst/>
          </a:prstGeom>
          <a:ln w="0">
            <a:noFill/>
          </a:ln>
        </p:spPr>
      </p:pic>
      <p:pic>
        <p:nvPicPr>
          <p:cNvPr id="127" name="ip03" descr=""/>
          <p:cNvPicPr/>
          <p:nvPr/>
        </p:nvPicPr>
        <p:blipFill>
          <a:blip r:embed="rId2"/>
          <a:stretch/>
        </p:blipFill>
        <p:spPr>
          <a:xfrm>
            <a:off x="2057400" y="1752480"/>
            <a:ext cx="4686480" cy="3581640"/>
          </a:xfrm>
          <a:prstGeom prst="rect">
            <a:avLst/>
          </a:prstGeom>
          <a:ln w="0">
            <a:noFill/>
          </a:ln>
        </p:spPr>
      </p:pic>
      <p:pic>
        <p:nvPicPr>
          <p:cNvPr id="128" name="ip04" descr=""/>
          <p:cNvPicPr/>
          <p:nvPr/>
        </p:nvPicPr>
        <p:blipFill>
          <a:blip r:embed="rId3"/>
          <a:stretch/>
        </p:blipFill>
        <p:spPr>
          <a:xfrm>
            <a:off x="2019240" y="1752480"/>
            <a:ext cx="4686480" cy="358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770D-C754-4A6C-A063-E278E4B7975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Data Studi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sistente computerizado para el laboratorio de Ciencias Natur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rmite medir, registrar, graficar y analizar múltiples magnitudes de trabajos experimentales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ale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en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tiempo re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6471-DAEA-4947-B259-51BF7CA6924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ProSolv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Software de Inteligencia Artificial para la enseñanza de la Física a través de la resolución asistida de proble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Guía en la comprensión de las consign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buja esquemas de las situaciones bajo estud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senta las fórmulas del modelo matemático estándar que describe el fenóme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2E984-A8AA-41E6-8392-E49696E1EAA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ProSolv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siste en la búsqueda de las ecuaciones más adecuadas para resolver el problema en estud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yuda a despejar incógnitas y eliminar variables por sustitu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ermite crear gráficos de cualquier variable vs ot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uando es pertinente, presenta una animación del fenómeno bajo estud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E989-2F6A-4DA2-AEA5-5B29EFCAABA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ProSolv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4" name="ps1" descr=""/>
          <p:cNvPicPr/>
          <p:nvPr/>
        </p:nvPicPr>
        <p:blipFill>
          <a:blip r:embed="rId1"/>
          <a:stretch/>
        </p:blipFill>
        <p:spPr>
          <a:xfrm>
            <a:off x="803160" y="1447920"/>
            <a:ext cx="6664320" cy="3736800"/>
          </a:xfrm>
          <a:prstGeom prst="rect">
            <a:avLst/>
          </a:prstGeom>
          <a:ln w="0">
            <a:noFill/>
          </a:ln>
        </p:spPr>
      </p:pic>
      <p:pic>
        <p:nvPicPr>
          <p:cNvPr id="135" name="ps2" descr=""/>
          <p:cNvPicPr/>
          <p:nvPr/>
        </p:nvPicPr>
        <p:blipFill>
          <a:blip r:embed="rId2"/>
          <a:stretch/>
        </p:blipFill>
        <p:spPr>
          <a:xfrm>
            <a:off x="1108080" y="1752480"/>
            <a:ext cx="6664320" cy="3737160"/>
          </a:xfrm>
          <a:prstGeom prst="rect">
            <a:avLst/>
          </a:prstGeom>
          <a:ln w="0">
            <a:noFill/>
          </a:ln>
        </p:spPr>
      </p:pic>
      <p:pic>
        <p:nvPicPr>
          <p:cNvPr id="136" name="ps3" descr=""/>
          <p:cNvPicPr/>
          <p:nvPr/>
        </p:nvPicPr>
        <p:blipFill>
          <a:blip r:embed="rId3"/>
          <a:stretch/>
        </p:blipFill>
        <p:spPr>
          <a:xfrm>
            <a:off x="1447920" y="2035080"/>
            <a:ext cx="6869160" cy="3679920"/>
          </a:xfrm>
          <a:prstGeom prst="rect">
            <a:avLst/>
          </a:prstGeom>
          <a:ln w="0">
            <a:noFill/>
          </a:ln>
        </p:spPr>
      </p:pic>
      <p:pic>
        <p:nvPicPr>
          <p:cNvPr id="137" name="ps4" descr=""/>
          <p:cNvPicPr/>
          <p:nvPr/>
        </p:nvPicPr>
        <p:blipFill>
          <a:blip r:embed="rId4"/>
          <a:stretch/>
        </p:blipFill>
        <p:spPr>
          <a:xfrm>
            <a:off x="1828800" y="2286000"/>
            <a:ext cx="688032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30931-80BE-43AB-B435-71195D5B2C1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s5" descr=""/>
          <p:cNvPicPr/>
          <p:nvPr/>
        </p:nvPicPr>
        <p:blipFill>
          <a:blip r:embed="rId1"/>
          <a:stretch/>
        </p:blipFill>
        <p:spPr>
          <a:xfrm>
            <a:off x="914400" y="341280"/>
            <a:ext cx="7743960" cy="63644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ProSolv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61307-FE9F-4F01-810E-5FF1AC84BB3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www.tecnoedu.co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-360" y="380520"/>
            <a:ext cx="57913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odrán bajar este resúmen de características 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4114800"/>
            <a:ext cx="5638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 solicitarlo 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"/>
              </a:rPr>
              <a:t>Tecnología Educativa s.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fo@tecnoedu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elefax (0351) 461 7007 ro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eccar Varela 658 – Córdoba – 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t.: Ing. Sergio San Romá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9AB83-1894-45F4-AC9D-F9F90819E24B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Data Studi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2" name="Bundle%20Prodymes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543800" cy="40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3A5CB-6C25-4CF6-9FEF-6F6AB12005B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Data Studi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4" name="ds1" descr=""/>
          <p:cNvPicPr/>
          <p:nvPr/>
        </p:nvPicPr>
        <p:blipFill>
          <a:blip r:embed="rId1"/>
          <a:stretch/>
        </p:blipFill>
        <p:spPr>
          <a:xfrm>
            <a:off x="1170000" y="1774800"/>
            <a:ext cx="6068880" cy="3635280"/>
          </a:xfrm>
          <a:prstGeom prst="rect">
            <a:avLst/>
          </a:prstGeom>
          <a:ln w="0">
            <a:noFill/>
          </a:ln>
        </p:spPr>
      </p:pic>
      <p:pic>
        <p:nvPicPr>
          <p:cNvPr id="95" name="ds2" descr=""/>
          <p:cNvPicPr/>
          <p:nvPr/>
        </p:nvPicPr>
        <p:blipFill>
          <a:blip r:embed="rId2"/>
          <a:stretch/>
        </p:blipFill>
        <p:spPr>
          <a:xfrm>
            <a:off x="5638680" y="1143000"/>
            <a:ext cx="2789280" cy="2125800"/>
          </a:xfrm>
          <a:prstGeom prst="rect">
            <a:avLst/>
          </a:prstGeom>
          <a:ln w="0">
            <a:noFill/>
          </a:ln>
        </p:spPr>
      </p:pic>
      <p:pic>
        <p:nvPicPr>
          <p:cNvPr id="96" name="ds3" descr=""/>
          <p:cNvPicPr/>
          <p:nvPr/>
        </p:nvPicPr>
        <p:blipFill>
          <a:blip r:embed="rId3"/>
          <a:stretch/>
        </p:blipFill>
        <p:spPr>
          <a:xfrm>
            <a:off x="5749920" y="3886200"/>
            <a:ext cx="2708280" cy="181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E0812-2C03-436F-AC86-71E76C2F1C0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Data Studio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Constitución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2133360"/>
            <a:ext cx="5638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ns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terf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38EBF-6053-4109-B39D-FD86B700AE2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ada sensor mide una o más magnitudes físico-químicas, transformándolas en una señal eléctrica que puede ser enviada a un sistema de procesamiento electrón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Data Studio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Sensores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C5F77-2F98-476B-B05F-2B2D099BD62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Data Studio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Sensores Provistos a Prodymes I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ara Físi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iferencia de potenc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trasónico de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osición, velocidad y aceleración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erz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mperatu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oni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eler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rrera infrarroja y polea de baja fric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ccesorio para medición directa de g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80545-359A-41E5-898E-3ABF7758E32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Data Studio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Sensores Provistos a Prodymes I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ara Quími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emperatura (x 2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esión absolu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lorímetro (3 longitudes de ond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5CF15-38A1-4DC9-8FF4-0180F05A448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00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Arial"/>
              </a:rPr>
              <a:t>Data Studio</a:t>
            </a:r>
            <a:br>
              <a:rPr sz="4400"/>
            </a:b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Arial"/>
              </a:rPr>
              <a:t>Interfase: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ce de Vínculo entre los Sensores y la P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ermite conectar hasta 5 sensores simultáneam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uede tomar datos autónomamente (lejos de la PC), facilitando los trabajos de camp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oma desde 1 muestra por hora hasta 20000 por segun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BD1E4-C0A0-4A93-8AEE-8B7A4C41D03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1T04:04:21Z</dcterms:created>
  <dc:creator>AM</dc:creator>
  <dc:description/>
  <dc:language>en-US</dc:language>
  <cp:lastModifiedBy>AM</cp:lastModifiedBy>
  <dcterms:modified xsi:type="dcterms:W3CDTF">2001-07-10T02:07:22Z</dcterms:modified>
  <cp:revision>23</cp:revision>
  <dc:subject/>
  <dc:title>Laboratorio de Ciencias Asistido por Computadoras</dc:title>
</cp:coreProperties>
</file>