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88920" y="426672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deeply indebted to the Dana Foundation for its initiative in recognizing projects that serve to improve the education and health of humankind, and I know that this recognition will advance the Workshop Physics and Tools for Scientific Thinking programs that Ron Thornton and I have been working on passionately for the past seve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package" Target="../embeddings/oleObject2.docx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01000" cy="2133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Creating Learning Environments</a:t>
            </a:r>
            <a:br>
              <a:rPr sz="4000"/>
            </a:b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      for Data Collection, Analysis, </a:t>
            </a:r>
            <a:br>
              <a:rPr sz="4000"/>
            </a:b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              Modeling and Visualization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57320" y="5313240"/>
            <a:ext cx="5272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Thornton, Direct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nter for Science &amp; Math Tea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fessor of Physics &amp; 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ufts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46160" y="2973240"/>
            <a:ext cx="383544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imes New Roman"/>
              </a:rPr>
              <a:t>Using a Suite of Modeling Software to Collect, Analyze and Model Physical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5640" y="5516640"/>
            <a:ext cx="3749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50600" y="5541840"/>
            <a:ext cx="2350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ger Sip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orhead St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140000" cy="326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4267080" y="1981080"/>
          <a:ext cx="4154760" cy="32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981080"/>
                    <a:ext cx="41547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8320" y="2286000"/>
          <a:ext cx="4143240" cy="3263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286000"/>
                    <a:ext cx="414324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cf4ea"/>
                </a:solidFill>
                <a:latin typeface="Times New Roman"/>
              </a:rPr>
              <a:t>Dynamic Analyzer II (Dyna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numerical solution of differential equations with extensive display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s a Mac or Windows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s easily with various embodiments of MBL and Visuali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guration files (like MBL) will allow the program to be used for modeling even by students with limited math knowledge.  Large variety of changeable models available on web s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3440" y="228600"/>
            <a:ext cx="560088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cf4ea"/>
                </a:solidFill>
                <a:latin typeface="Times New Roman"/>
              </a:rPr>
              <a:t>Visualizer</a:t>
            </a:r>
            <a:r>
              <a:rPr b="0" lang="en-US" sz="2400" spc="-1" strike="noStrike">
                <a:solidFill>
                  <a:srgbClr val="8cf4ea"/>
                </a:solidFill>
                <a:latin typeface="Times New Roman"/>
              </a:rPr>
              <a:t>®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of physical data or the output of models in 3-D vector form including time evolution and trajectori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display 3D vectors graphically and algebraicall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ualizer understands vector oper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can change vectors dynamically, observer viewpoint, and coordinate syste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mates MBL or video data and the output of Dyna or spreadsheet(Excel) mod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30592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amples of Visualizer</a:t>
            </a:r>
            <a:r>
              <a:rPr b="0" lang="en-US" sz="2400" spc="-1" strike="noStrike">
                <a:solidFill>
                  <a:srgbClr val="8cf4ea"/>
                </a:solidFill>
                <a:latin typeface="Times New Roman"/>
              </a:rPr>
              <a:t>®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Func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7040" y="16002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 Playgrou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Tutor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85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make repeated MBL data runs and display vectors in real time i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isuali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Simple harmonic motion data displayed as graphs and vecto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oggerPro with Java Visualizer inserted as an ActiveX compon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85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generate vectors over Quick Time movies and make new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Howit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ovie made with Visualize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9080" y="2023920"/>
            <a:ext cx="7667640" cy="41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Vector Playground</a:t>
            </a:r>
            <a:r>
              <a:rPr b="0" lang="en-US" sz="2400" spc="-1" strike="noStrike">
                <a:solidFill>
                  <a:srgbClr val="8cf4ea"/>
                </a:solidFill>
                <a:latin typeface="Times New Roman"/>
              </a:rPr>
              <a:t>®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Using the Visualizer's Vector Playgrou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increase student understanding of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ples algebraic and diagrammatic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priate vector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dagogical aids (</a:t>
            </a:r>
            <a:r>
              <a:rPr b="0" lang="en-US" sz="3200" spc="-1" strike="noStrike">
                <a:solidFill>
                  <a:srgbClr val="00b7a5"/>
                </a:solidFill>
                <a:latin typeface="Times New Roman"/>
              </a:rPr>
              <a:t>Ghost vect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ynamic Tutor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isualiz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penDoc component we can create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ynamic tutori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students can be guided to manipulate vectors (The tutorial can be changed by the teacher or use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also be able to do this in HTML with the Jav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isuali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-507960" y="-380880"/>
          <a:ext cx="10147320" cy="76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960" y="-380880"/>
                    <a:ext cx="10147320" cy="76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WW Sit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ysweb.moorhead.msus.edu/, is a source for the Dynamic Analyzer program and some example fil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tufts.edu/as/csmt/  Center for Science and Math Teaching.  Information on the Visualizer will be avail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0800" y="3045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0015"/>
                </a:solidFill>
                <a:latin typeface="Times New Roman"/>
              </a:rPr>
              <a:t>Our Modeling Knowledge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320" y="441936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279f"/>
                </a:solidFill>
                <a:latin typeface="Times New Roman"/>
              </a:rPr>
              <a:t>I still don’t have all of th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Times New Roman"/>
              </a:rPr>
              <a:t>answers, but I’m </a:t>
            </a:r>
            <a:r>
              <a:rPr b="0" lang="en-US" sz="3000" spc="-1" strike="noStrike">
                <a:solidFill>
                  <a:srgbClr val="fc0128"/>
                </a:solidFill>
                <a:latin typeface="Times New Roman"/>
              </a:rPr>
              <a:t>just</a:t>
            </a:r>
            <a:r>
              <a:rPr b="0" lang="en-US" sz="3000" spc="-1" strike="noStrike">
                <a:solidFill>
                  <a:srgbClr val="00279f"/>
                </a:solidFill>
                <a:latin typeface="Times New Roman"/>
              </a:rPr>
              <a:t> beginning to as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Times New Roman"/>
              </a:rPr>
              <a:t>the right questions.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71880" y="1117440"/>
            <a:ext cx="478764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Why Modeling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worked for years to produce activity-based curricular materials, methods, and technological tools (e.g. MBL) that help students to understand physics concepts by interacting with the physical world.  We have had some suc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now involved in an even more difficult task, helping students to understand physics in terms of modeling (mathematical and oth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1000" y="380520"/>
            <a:ext cx="7423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odeling Project Task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physics as the exploration of the physical world &amp; the construction, validation, and application of conceptu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ool-based software with strong interprocess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ools and techniques to aid students to learn and to link different depictions and re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ctivities that begin with and return often to the physical wor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Fund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0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tional Science Found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in Teaching &amp;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se &amp; Curriculum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76520" y="19047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 Dingbats"/>
                <a:ea typeface="Zapf Dingbats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FTS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nald Thorn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hen Beards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 Dyg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s Tra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ORHEAD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ger Sip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incipal  Project Collaborator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odeling  Suite Softwar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 for Scientific Thinking MB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Time data collection and display with powerful analysis capabilities with LoggerP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Analyzer II (Dy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numerical solution of differential     equations with extensive display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iz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5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play of physical data or the output of models in 3-D vector form including time evolution and trajectories.  Animates MBL or video data and the output of Dyna or spreadsheet(Excel) mod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f4ea"/>
                </a:solidFill>
                <a:latin typeface="Times New Roman"/>
              </a:rPr>
              <a:t>Pedagogical Requirements for Modeling Software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s activity-based collaborativ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authentic data collection and modeling ta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guided discovery curricular materi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resses learning difficulties identified through educa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 in actual classrooms and laboratories with a wide range of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oftware Structur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s communicating applications an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und document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Doc parts-- Live Object Visuali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 X components with COM 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 “Beans” or Ap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Compatible 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448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BL Sensors and Softwar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designed Microcomputer-Based Laboratory (MBL) sensors, interface (ULI) and software, such that students can simultaneously measure and graph such physical quantities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, velocity, acceleration,force, temperature, pH, pressure, light intensity, sound pressure, ionizing radiation, current, potential difference, magnetic field, rotational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, hardware and curriculum are available from Vernier Software, Portland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8:52:15Z</dcterms:created>
  <dc:creator>CSMT</dc:creator>
  <dc:description/>
  <dc:language>en-US</dc:language>
  <cp:lastModifiedBy>CSMT</cp:lastModifiedBy>
  <cp:lastPrinted>1998-03-18T17:32:57Z</cp:lastPrinted>
  <dcterms:modified xsi:type="dcterms:W3CDTF">2001-05-25T18:55:06Z</dcterms:modified>
  <cp:revision>2</cp:revision>
  <dc:subject/>
  <dc:title>Creating Learning Environments       for Data Collection, Analysis,                Modeling and Visualization</dc:title>
</cp:coreProperties>
</file>